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ACBE-AD33-4890-8342-743E6C879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542F-39AE-4148-B131-DD34E2F5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FF6-9E7F-49AB-8579-F138773C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E6D-80D8-4414-8E5A-313BC721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885-09FE-401D-BC49-A38E5F89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5E3-A982-4A64-B8A8-91D3D2F0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30A1-B980-44CF-AC88-95BD1BA7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62C2-F783-4432-A77C-60308DB1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FC85-6E07-4B18-9DFC-959809D6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BF2B-28BC-4EE5-B4F4-436AC7C9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F748-8FD3-4E62-B404-F8081C93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42F8-547F-4776-9214-7D931AC2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E887-D9ED-41B2-8561-D1EC0EE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B8C-3DC0-4471-ABF2-7FFA266F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4341-9555-48E8-B859-3559ACE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EF3C-F19C-4179-9E66-712C69A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5BD0-F4B2-4AA9-9BD8-BB997DD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080C-AA1E-4F69-A47D-57C06B18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4531-9327-4AE7-B28A-94328BAC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2433D-C575-4001-BDC5-9446089E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EFAB2-9196-447A-BE6D-E7AA22B1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3BA10-0867-451C-A2A3-B5A67D0A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E8868-45E5-45BD-A472-F73B1777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0559D-0EAE-48F4-A73A-D9EEE5AF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4E3-7163-4393-AF6B-54A67128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D8A6B-F2BC-4667-8E84-FEA1CAC0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3ED38-CA5C-4710-99DE-820F8437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1551B-FB80-4D71-8B75-84594C95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9E22D-4726-4CC6-9B22-17180A56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0A2BA-5F58-4E70-859D-5992ED9D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62F05-E1D0-423B-880A-81129251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B414A-900C-4AF5-B0D7-1AA7D1CD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D15C-C097-443E-B791-1B86CAD4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6D76-CB56-4F38-9378-DF29390B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C1C4-85B6-4BF1-91DE-605DDD91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AAD-F4B8-440A-81F0-1A905DE7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78D3C-B833-41D8-9CF8-891E3ED6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75D4-BD45-449B-BF88-F2C3747B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0EC8-DB1D-496F-B934-6D9F3A1F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E164-8AEA-478C-872A-18E770C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8059-8CFB-476D-804E-D3BD0A0B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CD6E9-7C74-4EFC-A4BA-BB2C5033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79AB3-5B60-4DE9-B8EB-4DA153EF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E308-AC81-47B3-A6C3-C1320627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8360-4DD7-4C7A-8138-A3FCFEEE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EDA88-B4E3-450C-807E-C4E1E589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6D9-CDCE-409F-B9A1-23E443A3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2211A-B164-4A86-9BEE-4B8E6C69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BB059-6F81-4976-9696-813E096C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75C43-5030-4CE9-A87D-95DAABED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FC23B-CA5D-423B-BD81-646F814C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8F504-098C-4AFC-BAFA-AD418BA6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E6AB2-7007-4DF8-8FBF-D4D5A8B4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F4178-9811-4C3B-B306-8C341788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8E3B2-E5C6-49EA-BB27-6DFDEDBB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527C5-A85C-42FB-82A4-DDE3D5CE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9E4D9-F5CB-45A5-A9E5-03DA9BF6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FA4-6B2A-4155-A9DD-6C569701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F7EE8-29D5-4D3E-BB9B-E3C4AAEF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644D3-0B64-4BF8-AE2F-40B39629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AACAA-016C-43A3-8A00-D362218C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953C3-23E9-434C-8E98-3BE5666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06833-81D5-424A-9C65-CF248B99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D491F-83CF-4271-8F8E-A323ED2F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6211F-0FCF-4E95-ABB7-0D9B36B5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012ED-6271-4342-8502-2227402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944DA-A930-4C74-8C33-F3C38185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D92BC-170A-41E1-B42D-EAFDD6F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BDD-4F45-4D27-AEDC-19A3F497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ACF1D-BDEF-4981-8063-2702201E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C2399-465E-4442-8832-07B2F97F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25223-3474-4D9A-A32C-9AAE0000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D566C-9B06-41F6-AC71-3CB74FC7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A2E27-1551-4AAD-A0E3-325D3040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FB47B-E95B-4E81-B41A-BDC8A4D8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EAE47-75EF-4BEF-80D1-CD9249D5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90E4F-BCBA-4029-970F-F24D5848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0C8F7-013F-42C2-A05B-BD3431A0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930B4-2CE1-44B2-BB0D-DDA9D227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7C1-FF7B-4B69-B143-911DB7BB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4B5DE-2BEB-491D-B2B5-587388FE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CD57A-3CCB-402B-B20C-8069DB7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B10F2-2286-4745-BD7C-25D01995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DD784-C02C-4919-8C04-690E633F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BAB14-5960-4E3D-B414-EEBD11DF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418-790F-4296-9288-D3C69CDC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7C08-05E4-42E8-8C9D-B36C392F62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FD79-AD64-4EF4-87EB-C1FF60E8C8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D838-FE22-4680-B2D3-EF965CD3CD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F571-21B0-4663-A029-C8F3FE8C7B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3187-F1D8-4FAF-AAB3-B92759DFFB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BA10-95CF-4F14-8C1D-AA343ADA65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827C-DCB7-4704-8204-679088F0AB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&amp;I 264: POINT OF VIEW AND COMPREHENS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arch 5, 201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533520" y="1752480"/>
            <a:ext cx="81532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Synthesize informa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Readers track their thinking as it evolves during reading, to get the overall mean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Use fix up strategi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Readers are aware of when they understand and when they don’t.  If they have trouble understanding specific words, phrases, or longer passages, they use problem-solving strategie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https://encrypted-tbn3.gstatic.com/images?q=tbn:ANd9GcTtyfufzoFOMw8-ZHgpnAq2tae9_RRNjh6bLjJaWV-GdFlzhQvQJg"/>
          <p:cNvPicPr/>
          <p:nvPr/>
        </p:nvPicPr>
        <p:blipFill>
          <a:blip r:embed="rId1"/>
          <a:stretch/>
        </p:blipFill>
        <p:spPr>
          <a:xfrm rot="19611600">
            <a:off x="104400" y="44280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2133720" y="304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doni MT Black"/>
              </a:rPr>
              <a:t>7 </a:t>
            </a:r>
            <a:r>
              <a:rPr b="1" lang="en-US" sz="4400" spc="-1" strike="noStrike">
                <a:solidFill>
                  <a:srgbClr val="000000"/>
                </a:solidFill>
                <a:latin typeface="Bodoni MT Black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COMPREHENS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088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 process by which we read and get meaning from tex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t is the heart of reading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t happens while we read and as a result of reading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fferent types of texts require different comprehending strategies (Common Core stress reading of Informational Texts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also need to teach students how to think critically about texts. (Question, respond, challenge, connect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Schoolbook"/>
              </a:rPr>
              <a:t>Mentor Texts for Comprehens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http://www.mauryk12.org/Literacy/reading%20mentor%20texts.htm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BEFORE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eacher will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tivate students through activities that may increase their interest (book talks, dramatic readings, or displays of art related to the text), making the text relevant to students in some wa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ctivate students' background knowledge related to the content of the text by discussing what students will read and what they already know about its topi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scuss the organization of the tex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FORE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stablish a purpose for read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and discuss difficult words, phrases, and concepts in the tex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view the text (by surveying the title, illustrations, and unusual text structures) to make predictions about its cont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nk, talk, and write about the topic of the tex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URING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Remind students to use comprehension strategies as they read and to monitor their understanding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sk questions that keep students on track and focus their attention on main ideas and important points in the text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cus attention on parts in a text that require students to make inference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ve students to summarize key sections or event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ncourage students to return to any predictions they have made before reading to see if they are confirmed by the text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FTER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Teachers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 discussion of the read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k students to recall and tell in their own words important parts of the tex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fer students opportunities to respond to the reading in various ways, including through writing, dramatic play, music, readers' theatre, videos, debate, or pantomi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FTER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Students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and discuss the ideas encountered in the tex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ly and extend these ideas to other texts and real life situa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mmarize what was read by retelling the main ide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cuss ideas for further read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ADER RESPON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29492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.schools shouldn’t be about handing down a collection of static truths to the next generation but about responding to the needs and interests of the students themselves -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Alfie Koh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entury Schoolbook"/>
              </a:rPr>
              <a:t>Transactional Theory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act of reading involves a </a:t>
            </a:r>
            <a:r>
              <a:rPr b="0" i="1" lang="en-US" sz="2200" spc="-1" strike="noStrike">
                <a:solidFill>
                  <a:srgbClr val="000000"/>
                </a:solidFill>
                <a:latin typeface="Century Schoolbook"/>
              </a:rPr>
              <a:t>transaction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between the reader and the text. Each </a:t>
            </a:r>
            <a:r>
              <a:rPr b="0" i="1" lang="en-US" sz="2200" spc="-1" strike="noStrike">
                <a:solidFill>
                  <a:srgbClr val="000000"/>
                </a:solidFill>
                <a:latin typeface="Century Schoolbook"/>
              </a:rPr>
              <a:t>"transaction"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s a unique experience in which the reader and text continuously act and are acted upon by each othe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A written work does not have the same meaning for every reader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Each reader brings individual background knowledge, beliefs, and context to a reading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From the work of Louise Rosenblat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CONFERE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eworkshop.on.ca/edu/pdf/Mod17_user_guide.pd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vimeopro.com/tcrwp/reading-literature/video/55957324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youtube.com/watch?v=lTgk89dhX1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will discuss Assessment another week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NDFUL COMPREHENSION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520" y="1295280"/>
            <a:ext cx="7696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prehension is difficult to measure because people understand texts differentl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 less on “if” a student comprehended a text and more on “how” she comprehended i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 on efforts to build students’ metacognitive awareness—their awareness of the strategies they use to think about tex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e wary of teaching comprehension strategies in lock-step or uniform way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lnSpc>
                <a:spcPct val="8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lnSpc>
                <a:spcPct val="8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ntiona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ODAY’S CLA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er’s Worksh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rehens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erature Focus Unit Planning Ti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PLICIT AND STRATEGIC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395360"/>
            <a:ext cx="838224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xplicit Instr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monstration (modeling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ependent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rategic Instr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s what to 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ws how to do 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s when to use the strategy and when it might be useful (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When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Why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we’re doing i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erring Word Meaning  (#9, 2: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XT TI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r’s Worksh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 Cho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er’s Worksh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lesson strategies- Compreh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erature Focus Unit Present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IZ TIME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lete the comprehension quiz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nk about your thought processes as you ar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rehending this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RITERS’ WORKSHO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les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ependent Wri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ork on your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Plac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 (I Am From,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r write a Small Moments Story from your map) Try out what our mentor texts showed us about setting a scen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se our list of what writers write abou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ll someone about something on your Heart Map and write a Small Moments stor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ding Meeting- We’ll share our successes and strugg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70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RCISE #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95280" y="1447560"/>
            <a:ext cx="6477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. Grw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1. dlghtf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. Knw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2. Hn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. Nd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3. cr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. W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4. rm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5. Wh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5. th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6. Ld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6. btw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7. Grd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7. hncfrt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8. Flw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8. m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9. 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9. kn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0. Spp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0. T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aken from:  Wilde, S. (2000). </a:t>
            </a:r>
            <a:r>
              <a:rPr b="0" i="1" lang="en-US" sz="2200" spc="-1" strike="noStrike">
                <a:solidFill>
                  <a:srgbClr val="000000"/>
                </a:solidFill>
                <a:latin typeface="Century Schoolbook"/>
              </a:rPr>
              <a:t>Miscue Analysis Made Easy: Building on Student Strength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 Portsmouth, NH: Heineman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RCISE #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l chldrn, xcpt 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r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. thy s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kn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t thy wll grw p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 wy Wndy kn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s.  N d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h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h ws tw y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h ws plyng n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rd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nd sh plckd nth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lw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d rn wth 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r mthr. 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p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 mst hv lkd rth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lghtf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fr Mrs. Drlng pt h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 hr hrt 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r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“h, why cn’t 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m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k ths vr!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s ll tht pss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tw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m n th sbjct, b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ncfr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ndy knw th th, s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w p.  y lwy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kn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tr y r tw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 th begnnng f th 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URN AND TAL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What do the previous exercises say about what happens in your “Reader Mind” as you read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What do they say about comprehension instru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Make a connection- What does your comprehension instruction involve? Does it get to the </a:t>
            </a:r>
            <a:r>
              <a:rPr b="0" i="1" lang="en-US" sz="3000" spc="-1" strike="noStrike">
                <a:solidFill>
                  <a:srgbClr val="000000"/>
                </a:solidFill>
                <a:latin typeface="Century Schoolbook"/>
              </a:rPr>
              <a:t>Heart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of Reading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What questions do you have about comprehension instruction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8080" y="1371240"/>
            <a:ext cx="7848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Create mental image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:  Readers create a wide range of visual, auditory, and other sensory images as they read, and they become emotionally involved with what they read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Use background knowledg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:  Readers use their prior knowledge before, during, and after reading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Ask question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:  Readers generate questions before, during, and after reading to clarify meaning, make predictions, and focus their attention on what’s important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s://encrypted-tbn3.gstatic.com/images?q=tbn:ANd9GcTtyfufzoFOMw8-ZHgpnAq2tae9_RRNjh6bLjJaWV-GdFlzhQvQJg"/>
          <p:cNvPicPr/>
          <p:nvPr/>
        </p:nvPicPr>
        <p:blipFill>
          <a:blip r:embed="rId1"/>
          <a:stretch/>
        </p:blipFill>
        <p:spPr>
          <a:xfrm rot="19611600">
            <a:off x="104400" y="44280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Bodoni MT Black"/>
              </a:rPr>
              <a:t>7 </a:t>
            </a:r>
            <a:r>
              <a:rPr b="1" lang="en-US" sz="4400" spc="-1" strike="noStrike">
                <a:solidFill>
                  <a:srgbClr val="000000"/>
                </a:solidFill>
                <a:latin typeface="Bodoni MT Black"/>
              </a:rPr>
              <a:t>Key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752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Make inferenc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Readers use their prior knowledge and information from what they read to make predictions, seek answers to questions, draw conclusions, and create interpretations that deepen their understanding of the tex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Determine the most important ideas or them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Readers identify key ideas or themes as they read, and they can distinguish between important and unimportant inform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https://encrypted-tbn3.gstatic.com/images?q=tbn:ANd9GcTtyfufzoFOMw8-ZHgpnAq2tae9_RRNjh6bLjJaWV-GdFlzhQvQJg"/>
          <p:cNvPicPr/>
          <p:nvPr/>
        </p:nvPicPr>
        <p:blipFill>
          <a:blip r:embed="rId1"/>
          <a:stretch/>
        </p:blipFill>
        <p:spPr>
          <a:xfrm rot="19611600">
            <a:off x="104400" y="44280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2133720" y="304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doni MT Black"/>
              </a:rPr>
              <a:t>7 </a:t>
            </a:r>
            <a:r>
              <a:rPr b="1" lang="en-US" sz="4400" spc="-1" strike="noStrike">
                <a:solidFill>
                  <a:srgbClr val="000000"/>
                </a:solidFill>
                <a:latin typeface="Bodoni MT Black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23:13:40Z</dcterms:created>
  <dc:creator>dana karraker</dc:creator>
  <dc:description/>
  <dc:language>en-US</dc:language>
  <cp:lastModifiedBy>College of Education</cp:lastModifiedBy>
  <dcterms:modified xsi:type="dcterms:W3CDTF">2013-03-05T14:56:11Z</dcterms:modified>
  <cp:revision>14</cp:revision>
  <dc:subject/>
  <dc:title>C&amp;I 264: Point of View and Comprehension</dc:title>
</cp:coreProperties>
</file>